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285-3702-4330-B1C3-2FA88D9C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FF8-18CC-4970-A36B-B25DDDC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E0D-DD0D-420B-BF08-1E57F2AE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C24-DA2E-4579-B09E-0B9F4F7E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0EF-A05B-4F7E-AB94-C4675C1E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72A-BC34-484A-A1A4-7A36F5D4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0BD-7681-4748-89E3-C6A3DB79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121-0487-4AFE-97D7-3E62781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D50-6D19-4AB5-A9F0-CED12ACF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CBF-BDAB-4D9F-9667-E1FFEEF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C54-FB47-445C-99B2-83420D2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AB5-EB4B-469E-92DE-B79C730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39D8-F425-40A0-AC25-0092FEF5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el 4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olker Soli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viel Obst und Gem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867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trinke Alkohol n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8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jogge jeden ta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oloring page jog"/>
          <p:cNvPicPr/>
          <p:nvPr/>
        </p:nvPicPr>
        <p:blipFill>
          <a:blip r:embed="rId1"/>
          <a:stretch/>
        </p:blipFill>
        <p:spPr>
          <a:xfrm>
            <a:off x="3048120" y="1600200"/>
            <a:ext cx="31557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99cc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uchen is nicht gut fur mei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ruder’s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keine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le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33:44Z</dcterms:created>
  <dc:creator>CUSD220</dc:creator>
  <dc:description/>
  <dc:language>en-US</dc:language>
  <cp:lastModifiedBy>CUSD220</cp:lastModifiedBy>
  <dcterms:modified xsi:type="dcterms:W3CDTF">2012-03-05T13:43:18Z</dcterms:modified>
  <cp:revision>3</cp:revision>
  <dc:subject/>
  <dc:title>Kapitel 4 Project</dc:title>
</cp:coreProperties>
</file>